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13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44E-C4C8-4B37-8559-AFD6EAFF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26C-AA50-4049-972D-341ACA77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9F84-B7FC-4974-AA45-713AF5C2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7ACF-9786-4A31-BCD0-9E8AC18F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A36F-076D-4E75-ABB3-4D74991C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3AA-D2D2-4F9B-BC9E-482AE9FB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271C-000B-49B9-B007-7660684A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C57-A918-4720-88E3-910CB322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5C1-4280-4136-9BEC-D00637CD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E4F3-697A-43A9-9CB8-91490489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FC63-F28D-4729-9B50-15EA7136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9EC4-F702-4760-882F-2718EC4C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21F6-DE84-4D79-BBA5-6911D327E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meeting of people who you haven’t seen in a long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cook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g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re-u-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15040" y="4114800"/>
            <a:ext cx="247644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tches 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helps gets others a job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p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: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11800" y="1990800"/>
            <a:ext cx="2482920" cy="1960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743440" y="4199040"/>
            <a:ext cx="1619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formal printed no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s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annou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a-nounc-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910120" y="3139920"/>
            <a:ext cx="128448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n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plans made before h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ar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a-rrange-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05640" y="3195720"/>
            <a:ext cx="16938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st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house with land and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is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home/st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home-st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24280" y="2541600"/>
            <a:ext cx="365760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th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coming together of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a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g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ga-ther-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632560" y="3294000"/>
            <a:ext cx="184140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tisf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Contentment happ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exc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s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Satis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sat-is-fac-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75360" y="1981080"/>
            <a:ext cx="2755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-Un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Grandfathers br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un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un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great-un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60840" y="2800440"/>
            <a:ext cx="21830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o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Pleasant sm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sw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 stin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s: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a-ro-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180684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1584360" cy="1981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172200" y="4800600"/>
            <a:ext cx="121428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is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continued repeate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try keep 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s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pers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per-sis-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64200" y="4114800"/>
            <a:ext cx="2776320" cy="1981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808600" y="1981080"/>
            <a:ext cx="1487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lab</cp:lastModifiedBy>
  <dcterms:modified xsi:type="dcterms:W3CDTF">2008-10-30T22:02:11Z</dcterms:modified>
  <cp:revision>2</cp:revision>
  <dc:subject/>
  <dc:title>PowerPoint Presentation</dc:title>
</cp:coreProperties>
</file>